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3.png" ContentType="image/png"/>
  <Override PartName="/ppt/media/image8.wmf" ContentType="image/x-wmf"/>
  <Override PartName="/ppt/media/image12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5A2-0FBA-49DC-98B1-3EB3C512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7F5-8DE5-41F6-B962-DE1AC962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133-FC9C-4899-BFFA-A0E47914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07D-E11B-4B0C-B0F7-3402A62E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0A2-2D58-46A5-9CC2-DDE0B089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6B1-066C-4C5B-9FCE-D1B47392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F2B-8424-4316-A8ED-9EFE7CD9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6E7-3A66-41CD-8074-8F35F6AE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DD8-6532-4ECF-814B-02AC0D59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14C-CD75-466B-B176-3AFDBA05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511-4769-4FD0-91E7-E81ED1FC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C39A-B419-4117-9AE5-ABB47ED6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FFF8-92C7-4478-BF89-209F022D6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outube.com/watch?v=j-jSJR_Yna0" TargetMode="External"/><Relationship Id="rId3" Type="http://schemas.openxmlformats.org/officeDocument/2006/relationships/hyperlink" Target="http://www.youtube.com/watch?v=j-jSJR_Yna0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Enthal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0720"/>
            <a:ext cx="777240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a chemical reaction, the total kinetic and potential energy of a substance is called its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heat cont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nthalp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785880" y="3571920"/>
            <a:ext cx="7786800" cy="94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use the symbol H to represent enthalpy.  Enthalpy is a characteristic of a sub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85880" y="46432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halpy is measured in J/m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Thermochemical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Written with the energy term as a reactant or product as part of the 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+  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+    394 k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Straight Arrow Connector 4"/>
          <p:cNvCxnSpPr/>
          <p:nvPr/>
        </p:nvCxnSpPr>
        <p:spPr>
          <a:xfrm>
            <a:off x="3214440" y="3714840"/>
            <a:ext cx="857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681120" y="4429080"/>
                <a:ext cx="62830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J</m:t>
                    </m:r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Thermochemical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enthalpy term can be removed from the equation and writte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thalpy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ontent Placeholder 5" descr="hdiagrams.gif"/>
          <p:cNvPicPr/>
          <p:nvPr/>
        </p:nvPicPr>
        <p:blipFill>
          <a:blip r:embed="rId1"/>
          <a:stretch/>
        </p:blipFill>
        <p:spPr>
          <a:xfrm>
            <a:off x="1143000" y="2286000"/>
            <a:ext cx="6472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52280" y="0"/>
            <a:ext cx="8991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Vapor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ergy has to be supplied to a liquid to enable it to overcome forces that hold molecules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othermic proces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 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52280" y="1981080"/>
            <a:ext cx="8991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omic Sans MS"/>
              </a:rPr>
              <a:t>Me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ergy is supplied to a solid to enable it to vibrate more vigorously until molecules can move past each other and flow as a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othermic proces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 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4392720"/>
            <a:ext cx="8991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Free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quid releases energy and allows molecules to settle into a lower energy state and form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othermic proces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 neg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e remove heat from water when making ice in freez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lori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asurement of heat transfer is known as 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a calorimeter to measure the heat transferred to/from a rea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071800" y="242892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lori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ypes of Calori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285840" y="2286000"/>
            <a:ext cx="4464000" cy="2976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071960" y="198108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mple Calo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ased on a styrofoam cup (good insul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e a lid to prevent heat loss to to the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ater is typically the surrou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ypes of Calori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 Calor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ypes of Calori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lame Calor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flame.JPG"/>
          <p:cNvPicPr/>
          <p:nvPr/>
        </p:nvPicPr>
        <p:blipFill>
          <a:blip r:embed="rId1"/>
          <a:stretch/>
        </p:blipFill>
        <p:spPr>
          <a:xfrm>
            <a:off x="1403280" y="2565360"/>
            <a:ext cx="6201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ypes of Calori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mb Calori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FG05_016.GIF"/>
          <p:cNvPicPr/>
          <p:nvPr/>
        </p:nvPicPr>
        <p:blipFill>
          <a:blip r:embed="rId1"/>
          <a:stretch/>
        </p:blipFill>
        <p:spPr>
          <a:xfrm>
            <a:off x="1071720" y="271476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Heat of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imeters are used to calculate the enthalpy of a reaction, by determining the heat absorbed/released to the surroundings. Recall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=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786120" y="407196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c∆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755640" y="5157720"/>
            <a:ext cx="771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halpy is temperature-dependent: as the kinetic energy increases with temperature, so does the enthal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esc11.gif"/>
          <p:cNvPicPr/>
          <p:nvPr/>
        </p:nvPicPr>
        <p:blipFill>
          <a:blip r:embed="rId1"/>
          <a:stretch/>
        </p:blipFill>
        <p:spPr>
          <a:xfrm>
            <a:off x="887400" y="196920"/>
            <a:ext cx="64213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Heat of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 a reaction produces heat, thermal energy is lost by the ____________ and gained by the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can calculate the heat gained by the surroundings ( or lost by the surroundings in the case of an ____________________________ reaction) we can determine the heat lost by the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429000" y="2500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785960" y="30002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rrou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"/>
              <p:cNvSpPr txBox="1"/>
              <p:nvPr/>
            </p:nvSpPr>
            <p:spPr>
              <a:xfrm>
                <a:off x="2143080" y="3571920"/>
                <a:ext cx="2928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aine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TextBox 7"/>
          <p:cNvSpPr/>
          <p:nvPr/>
        </p:nvSpPr>
        <p:spPr>
          <a:xfrm>
            <a:off x="3143160" y="49291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Heat of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1424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ce we have determined the heat, Q, we calculate  enthalpy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ample 1: Determine the heat of solution of KOH if 5.6 g of KOH was added to 100.0 g of water and the temperature rose by 13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2759040" y="3286080"/>
                <a:ext cx="18352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x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ample 1: Determine the heat of solution of KOH if 5.6 g of KOH was added to 100.0 g of water and the temperature rose by 13</a:t>
            </a:r>
            <a:r>
              <a:rPr b="0" lang="en-CA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bustion of 2.4 g of butane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 a calorimeter causes a rise in temperature of 1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the calorimeter contains 1400g of water and the calorimeter has a mass of 450g.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alorim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39 J/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Fi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but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3049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omic Sans MS"/>
              </a:rPr>
              <a:t>Why can an ionic solid dissolving in water be either endothermic or exothermic</a:t>
            </a:r>
            <a:r>
              <a:rPr b="1" lang="en-CA" sz="2400" spc="-1" strike="noStrike">
                <a:solidFill>
                  <a:srgbClr val="cc00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786040" y="14288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mic Sans MS"/>
              </a:rPr>
              <a:t>Lattice Enthal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57200" y="2000160"/>
            <a:ext cx="86868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easure of the attraction between ions (the enthalpy change when a solid is broken 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attice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s positive as it requires energy to break the intermolecular forces holding the ions together in a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785880" y="392904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Enthalpy of hydration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Comic Sans MS"/>
              </a:rPr>
              <a:t>hyd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785880" y="4572000"/>
            <a:ext cx="7543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halpy of hydr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negative as energy is released when the ions are surrounded by water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enthalpy.jpg"/>
          <p:cNvPicPr/>
          <p:nvPr/>
        </p:nvPicPr>
        <p:blipFill>
          <a:blip r:embed="rId1"/>
          <a:stretch/>
        </p:blipFill>
        <p:spPr>
          <a:xfrm>
            <a:off x="1835280" y="981000"/>
            <a:ext cx="504036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000080" y="870120"/>
            <a:ext cx="71611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thalpy of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ity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04920" y="30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XOTHERMIC &amp; ENDOTHERMIC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80880" y="990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halpy changes result from chemical bonds being broken and reformed. Breaking a bond requires energy, whereas creating a bond releases ener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Slide11.jpg"/>
          <p:cNvPicPr/>
          <p:nvPr/>
        </p:nvPicPr>
        <p:blipFill>
          <a:blip r:embed="rId1"/>
          <a:stretch/>
        </p:blipFill>
        <p:spPr>
          <a:xfrm>
            <a:off x="2266920" y="2133720"/>
            <a:ext cx="58453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04920" y="30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XOTHERMIC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80880" y="990720"/>
            <a:ext cx="822960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produc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reactan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othermic proces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hange where heat is released. Here the enthalpy of the products is LESS than the react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othermic process: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 &lt; 0 (at constant press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55640" y="3333600"/>
            <a:ext cx="4753080" cy="3084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>
            <a:hlinkClick r:id="rId2"/>
          </p:cNvPr>
          <p:cNvSpPr/>
          <p:nvPr/>
        </p:nvSpPr>
        <p:spPr>
          <a:xfrm>
            <a:off x="6300720" y="5013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4038480" y="3962520"/>
            <a:ext cx="1919160" cy="2630520"/>
            <a:chOff x="4038480" y="3962520"/>
            <a:chExt cx="1919160" cy="2630520"/>
          </a:xfrm>
        </p:grpSpPr>
        <p:pic>
          <p:nvPicPr>
            <p:cNvPr id="55" name="Picture 3" descr="F:\PFiles\MSOffice\Clipart\standard\stddir3\na00867_.wmf"/>
            <p:cNvPicPr/>
            <p:nvPr/>
          </p:nvPicPr>
          <p:blipFill>
            <a:blip r:embed="rId1"/>
            <a:stretch/>
          </p:blipFill>
          <p:spPr>
            <a:xfrm>
              <a:off x="4419360" y="4724640"/>
              <a:ext cx="1538280" cy="18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" descr="F:\PFiles\MSOffice\Clipart\standard\stddir3\na01440_.wmf"/>
            <p:cNvPicPr/>
            <p:nvPr/>
          </p:nvPicPr>
          <p:blipFill>
            <a:blip r:embed="rId2"/>
            <a:stretch/>
          </p:blipFill>
          <p:spPr>
            <a:xfrm>
              <a:off x="4038480" y="3962520"/>
              <a:ext cx="863640" cy="89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Text Box 5"/>
          <p:cNvSpPr/>
          <p:nvPr/>
        </p:nvSpPr>
        <p:spPr>
          <a:xfrm>
            <a:off x="380880" y="533520"/>
            <a:ext cx="82296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othermic proces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hange (e.g. a chemical reaction) that requires (or absorbs) 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nput of heat corresponds to the enthalpy of the products being higher than the react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othermic process: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 &gt; 0 (at constant press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80880" y="4495680"/>
            <a:ext cx="3505320" cy="1557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tosynthesis is an endothermic reaction (requires energy input from s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400800" y="4038480"/>
            <a:ext cx="2438280" cy="198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ing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ons from NaCl is an endotherm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981080" y="304920"/>
            <a:ext cx="518184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stems &amp; Surrou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0" y="1219320"/>
            <a:ext cx="914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rmodynamics, the world is divided into a system and its surrou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ste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part of the world we want to study (e.g. a reaction mixture in a fla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rrounding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 of everything else outside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14"/>
          <p:cNvGrpSpPr/>
          <p:nvPr/>
        </p:nvGrpSpPr>
        <p:grpSpPr>
          <a:xfrm>
            <a:off x="914400" y="4191120"/>
            <a:ext cx="7162920" cy="2212200"/>
            <a:chOff x="914400" y="4191120"/>
            <a:chExt cx="7162920" cy="2212200"/>
          </a:xfrm>
        </p:grpSpPr>
        <p:sp>
          <p:nvSpPr>
            <p:cNvPr id="63" name="Text Box 5"/>
            <p:cNvSpPr/>
            <p:nvPr/>
          </p:nvSpPr>
          <p:spPr>
            <a:xfrm>
              <a:off x="3429000" y="4191120"/>
              <a:ext cx="1905120" cy="4597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3124080" y="59436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LO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914400" y="53341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OP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5638680" y="54864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ISOL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1"/>
            <p:cNvSpPr/>
            <p:nvPr/>
          </p:nvSpPr>
          <p:spPr>
            <a:xfrm>
              <a:off x="4191120" y="4876920"/>
              <a:ext cx="228600" cy="990360"/>
            </a:xfrm>
            <a:prstGeom prst="downArrow">
              <a:avLst>
                <a:gd name="adj1" fmla="val 50000"/>
                <a:gd name="adj2" fmla="val 10830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12"/>
            <p:cNvSpPr/>
            <p:nvPr/>
          </p:nvSpPr>
          <p:spPr>
            <a:xfrm rot="2524200">
              <a:off x="2895480" y="4572000"/>
              <a:ext cx="228600" cy="990720"/>
            </a:xfrm>
            <a:prstGeom prst="downArrow">
              <a:avLst>
                <a:gd name="adj1" fmla="val 50000"/>
                <a:gd name="adj2" fmla="val 108346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13"/>
            <p:cNvSpPr/>
            <p:nvPr/>
          </p:nvSpPr>
          <p:spPr>
            <a:xfrm rot="19107600">
              <a:off x="5562360" y="4571640"/>
              <a:ext cx="228600" cy="990720"/>
            </a:xfrm>
            <a:prstGeom prst="downArrow">
              <a:avLst>
                <a:gd name="adj1" fmla="val 50000"/>
                <a:gd name="adj2" fmla="val 108346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3520" y="380880"/>
            <a:ext cx="579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EN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can exchange both matter and energy with the surroundings (e.g. open reaction flask, rocket eng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971800" y="243828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OSED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can exchange only energy with the surroundings (matter remains fixed) e.g. a sealed reaction fl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09480" y="47242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OLATED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can exchange neither energy nor matter with its surroundings (e.g. a thermos fla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F:\PFiles\MSOffice\Clipart\standard\stddir3\fd01662_.wmf"/>
          <p:cNvPicPr/>
          <p:nvPr/>
        </p:nvPicPr>
        <p:blipFill>
          <a:blip r:embed="rId1"/>
          <a:stretch/>
        </p:blipFill>
        <p:spPr>
          <a:xfrm>
            <a:off x="6858000" y="4648320"/>
            <a:ext cx="83808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F:\PFiles\MSOffice\Clipart\WebArt\tn00594a.gif"/>
          <p:cNvPicPr/>
          <p:nvPr/>
        </p:nvPicPr>
        <p:blipFill>
          <a:blip r:embed="rId2"/>
          <a:stretch/>
        </p:blipFill>
        <p:spPr>
          <a:xfrm>
            <a:off x="6477120" y="457200"/>
            <a:ext cx="1981080" cy="14191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0"/>
          <p:cNvGrpSpPr/>
          <p:nvPr/>
        </p:nvGrpSpPr>
        <p:grpSpPr>
          <a:xfrm>
            <a:off x="838080" y="2362320"/>
            <a:ext cx="1579680" cy="1697040"/>
            <a:chOff x="838080" y="2362320"/>
            <a:chExt cx="1579680" cy="1697040"/>
          </a:xfrm>
        </p:grpSpPr>
        <p:pic>
          <p:nvPicPr>
            <p:cNvPr id="76" name="Picture 6" descr="F:\PFiles\MSOffice\Clipart\standard\stddir3\hm00138_.wmf"/>
            <p:cNvPicPr/>
            <p:nvPr/>
          </p:nvPicPr>
          <p:blipFill>
            <a:blip r:embed="rId3"/>
            <a:stretch/>
          </p:blipFill>
          <p:spPr>
            <a:xfrm>
              <a:off x="838080" y="2362320"/>
              <a:ext cx="1579680" cy="16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8"/>
            <p:cNvSpPr/>
            <p:nvPr/>
          </p:nvSpPr>
          <p:spPr>
            <a:xfrm>
              <a:off x="990360" y="2590920"/>
              <a:ext cx="4572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9"/>
            <p:cNvSpPr/>
            <p:nvPr/>
          </p:nvSpPr>
          <p:spPr>
            <a:xfrm>
              <a:off x="1676160" y="2362320"/>
              <a:ext cx="5335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Identify the system and surroundings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Solid dissolved in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Two chemicals burned in a calo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438280" y="457200"/>
            <a:ext cx="4496040" cy="520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easuring 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4495680" y="175248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othermic reaction, heat given off &amp; temperature of water 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4419720" y="46483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othermic reaction, heat taken in &amp; temperature of water d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5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32860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4:39:20Z</dcterms:created>
  <dc:creator>Gateway 2000 Licensed User.</dc:creator>
  <dc:description/>
  <dc:language>en-US</dc:language>
  <cp:lastModifiedBy>C363966</cp:lastModifiedBy>
  <cp:lastPrinted>2001-11-15T09:28:04Z</cp:lastPrinted>
  <dcterms:modified xsi:type="dcterms:W3CDTF">2014-02-03T03:26:53Z</dcterms:modified>
  <cp:revision>65</cp:revision>
  <dc:subject/>
  <dc:title>PowerPoint Presentation</dc:title>
</cp:coreProperties>
</file>